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1D8-021D-4B0F-AFCE-1401A713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49A-9DCD-425B-889F-C6B9456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5AE-65A1-4FE3-9346-0E548C65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E39-A5A4-4AD2-880E-178E5F7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523-8E4D-4D5C-9FF3-01F5DB85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4E5-4E2E-4345-83D0-E6E1907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291-C381-4A36-8658-67CD6AA3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C8D-8EB7-4FD0-BC11-575E53E4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656-06C0-4DD6-A077-9019BDD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88A-C4FA-44CB-A8D1-63747FA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91E-D220-40E0-B35B-ABA754C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CCE-D537-448C-901E-8E8474BE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4AB-F036-4862-AFDA-F39ABB73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: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trick Tran XD Sammy Caldw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t Russians Bleh :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rote many novels on Russia in the communist t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didn’t get to choose what religion they h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persecuted out spoken religious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4267080"/>
            <a:ext cx="2390760" cy="234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1523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371600"/>
            <a:ext cx="266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mmunism fell the Russians went back to there religions including:            Judaism, Christianity and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use a different alphabet that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use similar numbers and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us, they have 33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91120" y="525780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language is related to Greek, Latin and other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4:20Z</dcterms:created>
  <dc:creator> </dc:creator>
  <dc:description/>
  <dc:language>en-US</dc:language>
  <cp:lastModifiedBy> </cp:lastModifiedBy>
  <dcterms:modified xsi:type="dcterms:W3CDTF">2010-12-15T15:48:16Z</dcterms:modified>
  <cp:revision>3</cp:revision>
  <dc:subject/>
  <dc:title>Culture :D </dc:title>
</cp:coreProperties>
</file>